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9.png" ContentType="image/png"/>
  <Override PartName="/ppt/media/image18.wmf" ContentType="image/x-wmf"/>
  <Override PartName="/ppt/media/image16.wmf" ContentType="image/x-wmf"/>
  <Override PartName="/ppt/media/image8.gif" ContentType="image/gif"/>
  <Override PartName="/ppt/media/image15.png" ContentType="image/png"/>
  <Override PartName="/ppt/media/image17.png" ContentType="image/png"/>
  <Override PartName="/ppt/media/image14.gif" ContentType="image/gif"/>
  <Override PartName="/ppt/media/image5.png" ContentType="image/png"/>
  <Override PartName="/ppt/media/image3.png" ContentType="image/png"/>
  <Override PartName="/ppt/media/image12.wmf" ContentType="image/x-wmf"/>
  <Override PartName="/ppt/media/image13.png" ContentType="image/png"/>
  <Override PartName="/ppt/media/image1.jpeg" ContentType="image/jpeg"/>
  <Override PartName="/ppt/media/image4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57AD-14DE-463C-AF1E-8EBD3CF8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111E-5067-4513-A9EB-3B5D7B26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B985-10D8-4AC9-947E-444627BF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5C2-92E9-4449-ADCC-84081F49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4DCF-DA84-42CD-9598-E9A626CB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CDAC-A538-4F6C-BAB8-214752D6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7F83-27F1-41DD-BDC4-3832F833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F11C-C8A7-42F7-99DD-D9CFC97F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4F51-DBA0-4C7F-B0B7-502489A1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4692-3719-44F1-8B72-86F8C86D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8A38-B2A2-453C-8F65-509FDA10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3738-2C19-4E9C-A7A4-383B4231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2D8C-1EFC-4CB5-8E09-32DAD0C2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C1B5-8552-454C-80D9-BAFA6CBC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54B4-92D5-4C09-BB3B-60C38760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47AB-D7A3-4B4A-99D9-2205F095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FA3C-4027-4A11-909A-D12DD044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214-1E03-4E81-B6DC-F5164EDB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CFE5-5E6E-4EE7-B9DB-02E6C8E5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561A-E4E0-4AF6-B163-757F216B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A3A-0996-4767-BE0A-1F9C1F68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2E58-A8C4-472E-8B24-87F448F0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2BDE-2F85-4B5B-ACD9-3080415F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A45-264C-43F9-8697-AA57964C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5616-4ED5-442A-8496-FED885CBFD18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DFEA-A5A1-43BE-9F42-7DCB60A44F28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slide" Target="slide7.xml"/><Relationship Id="rId6" Type="http://schemas.openxmlformats.org/officeDocument/2006/relationships/slide" Target="slide4.xml"/><Relationship Id="rId7" Type="http://schemas.openxmlformats.org/officeDocument/2006/relationships/slide" Target="slide8.xml"/><Relationship Id="rId8" Type="http://schemas.openxmlformats.org/officeDocument/2006/relationships/slide" Target="slide5.xm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182520" y="1365120"/>
            <a:ext cx="890604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00080" y="3885840"/>
            <a:ext cx="67723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Bill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 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3" action="ppaction://hlinksldjump"/>
              </a:rPr>
              <a:t>Que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4" action="ppaction://hlinksldjump"/>
              </a:rPr>
              <a:t>Election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5" action="ppaction://hlinksldjump"/>
              </a:rPr>
              <a:t>constit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6" action="ppaction://hlinksldjump"/>
              </a:rPr>
              <a:t>Law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7" action="ppaction://hlinksldjump"/>
              </a:rPr>
              <a:t>minis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8" action="ppaction://hlinksldjump"/>
              </a:rPr>
              <a:t>Vo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n election is when a person or government is chosen by a vot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428840" y="5929200"/>
            <a:ext cx="2643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2" descr="C:\Program Files\Microsoft Office\Media\CntCD1\Animated\j0219098.gif"/>
          <p:cNvPicPr/>
          <p:nvPr/>
        </p:nvPicPr>
        <p:blipFill>
          <a:blip r:embed="rId3"/>
          <a:stretch/>
        </p:blipFill>
        <p:spPr>
          <a:xfrm>
            <a:off x="4643280" y="3214800"/>
            <a:ext cx="26672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proposal for a new law or to modify a existing law that is presented to the parliamen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428840" y="6072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Picture 3" descr="C:\Program Files\Microsoft Office\Media\CntCD1\ClipArt2\j0229705.wmf"/>
          <p:cNvPicPr/>
          <p:nvPr/>
        </p:nvPicPr>
        <p:blipFill>
          <a:blip r:embed="rId2"/>
          <a:stretch/>
        </p:blipFill>
        <p:spPr>
          <a:xfrm>
            <a:off x="5000760" y="2928960"/>
            <a:ext cx="355104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law is a rule that is binn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500120" y="585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2" descr="C:\Program Files\Microsoft Office\Media\CntCD1\Animated\j0189249.gif"/>
          <p:cNvPicPr/>
          <p:nvPr/>
        </p:nvPicPr>
        <p:blipFill>
          <a:blip r:embed="rId2"/>
          <a:stretch/>
        </p:blipFill>
        <p:spPr>
          <a:xfrm>
            <a:off x="4429080" y="2928960"/>
            <a:ext cx="35863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vote is a formal expression of a choice, such as putting a hand up or writing on a peace of pap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1928880" y="621504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3" descr="C:\Program Files\Microsoft Office\Media\CntCD1\ClipArt7\j0339240.wmf"/>
          <p:cNvPicPr/>
          <p:nvPr/>
        </p:nvPicPr>
        <p:blipFill>
          <a:blip r:embed="rId2"/>
          <a:stretch/>
        </p:blipFill>
        <p:spPr>
          <a:xfrm>
            <a:off x="5143680" y="3286080"/>
            <a:ext cx="31208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he queen is the head of stat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1500120" y="571500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3" name="Picture 3" descr="C:\Program Files\Microsoft Office\Media\CntCD1\ClipArt6\j0294022.wmf"/>
          <p:cNvPicPr/>
          <p:nvPr/>
        </p:nvPicPr>
        <p:blipFill>
          <a:blip r:embed="rId2"/>
          <a:stretch/>
        </p:blipFill>
        <p:spPr>
          <a:xfrm>
            <a:off x="5429160" y="2357280"/>
            <a:ext cx="24321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set of rule that a state or country is run b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2071800" y="5786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2" descr="C:\Program Files\Microsoft Office\Media\CntCD1\Animated\j0336381.gif"/>
          <p:cNvPicPr/>
          <p:nvPr/>
        </p:nvPicPr>
        <p:blipFill>
          <a:blip r:embed="rId2"/>
          <a:stretch/>
        </p:blipFill>
        <p:spPr>
          <a:xfrm>
            <a:off x="4357800" y="2928960"/>
            <a:ext cx="3162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minister is both a member of the parliament and a member of the executiv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643120" y="614376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3" descr="C:\Program Files\Microsoft Office\Media\CntCD1\ClipArt1\j0186152.wmf"/>
          <p:cNvPicPr/>
          <p:nvPr/>
        </p:nvPicPr>
        <p:blipFill>
          <a:blip r:embed="rId2"/>
          <a:stretch/>
        </p:blipFill>
        <p:spPr>
          <a:xfrm>
            <a:off x="5429160" y="2428920"/>
            <a:ext cx="2357640" cy="37288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428760" y="6286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Click to end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he government is a party or a coalition of parties that wins the most  seats in the house of representative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5" name="Picture 2" descr="C:\Program Files\Microsoft Office\MEDIA\CAGCAT10\j0300840.wmf"/>
          <p:cNvPicPr/>
          <p:nvPr/>
        </p:nvPicPr>
        <p:blipFill>
          <a:blip r:embed="rId2"/>
          <a:stretch/>
        </p:blipFill>
        <p:spPr>
          <a:xfrm>
            <a:off x="4572000" y="3429000"/>
            <a:ext cx="27432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22:27:08Z</dcterms:created>
  <dc:creator>Education</dc:creator>
  <dc:description/>
  <dc:language>en-US</dc:language>
  <cp:lastModifiedBy>Education</cp:lastModifiedBy>
  <dcterms:modified xsi:type="dcterms:W3CDTF">2009-10-20T23:27:43Z</dcterms:modified>
  <cp:revision>7</cp:revision>
  <dc:subject/>
  <dc:title>Government glossary</dc:title>
</cp:coreProperties>
</file>